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CB3-5941-4797-A299-3EE97819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C81-AE65-4946-B057-FACD5D4D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549-09DB-4471-90EC-5C08BB74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F1D-D037-4BB8-AA66-E9B41D16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34D-63DF-4461-AE52-2D2B4DAA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72A-09F2-4C2D-8414-6C46154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F54-41DF-4526-817D-CF7F64F9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C1D-8A0D-421F-A1AC-176C7BA4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591-9CB1-44A9-8BA0-AD75A2A0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28E-2F7E-4F34-B004-FB9ABCD1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06A-E25A-4580-AC4F-6A26B2F8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C90-2BF3-4F55-B2A4-DFAC8CB2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EF94-9BAF-46DE-A947-5F9356D0B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0574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148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19520" y="2286000"/>
            <a:ext cx="1523880" cy="25146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ONO BASSA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3352680"/>
            <a:ext cx="9907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PRENDI L’AERE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8954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PRENDI L’AERE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PRENDI L’AERE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28954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PRENDI L’AERE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DEVI ANDAR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8954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DEVI ANDAR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19520" y="2286000"/>
            <a:ext cx="1523880" cy="25146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ONO BASSA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8800" y="3352680"/>
            <a:ext cx="9907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TO BEN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670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TO BEN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670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TO MAL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4959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TO MAL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4959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04920"/>
            <a:ext cx="838224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0"/>
            <a:ext cx="838224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419720"/>
            <a:ext cx="838188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304920"/>
            <a:ext cx="838224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209680"/>
            <a:ext cx="838224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114800"/>
            <a:ext cx="838224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30492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TAI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51460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26708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0492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TAI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51460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148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30492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TAI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51460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26708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096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I DOVE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096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I DOVE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096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I DOVE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ABIT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18148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8264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ABIT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ABIT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8264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ABIT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18148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8264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18148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68264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18148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68264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L CINE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4759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574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1148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L CINE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4759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 SCUOL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 SCUOL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 CAS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6781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 CAS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6781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DI EDMONT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670120" cy="4267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724280" y="2666880"/>
            <a:ext cx="2743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DI EDMONT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670120" cy="426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H="1">
            <a:off x="4724280" y="2666880"/>
            <a:ext cx="2743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ITO A EDMONT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670120" cy="4267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4724280" y="2666880"/>
            <a:ext cx="2743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523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ITO A EDMONT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670120" cy="4267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4724280" y="2666880"/>
            <a:ext cx="2743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523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ITO A EDMONT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670120" cy="426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4724280" y="2666880"/>
            <a:ext cx="2743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523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19720" y="228600"/>
            <a:ext cx="1523880" cy="4724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11164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ONO ALTO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68580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 flipV="1">
            <a:off x="5943600" y="2361960"/>
            <a:ext cx="19051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DI RO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9308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DI RO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9308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ITO A RO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93080" cy="3539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52424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ITO A RO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93080" cy="3539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477120" y="1066680"/>
            <a:ext cx="1523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CANADES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19240" y="533520"/>
            <a:ext cx="443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CANADES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19240" y="533520"/>
            <a:ext cx="443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E OTT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61296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14800" y="2133720"/>
            <a:ext cx="32767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:30 A.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E OTT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612960" cy="3657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114800" y="2133720"/>
            <a:ext cx="32767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:30 A.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E NOV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612960" cy="3657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14800" y="2133720"/>
            <a:ext cx="32767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:00 P.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19720" y="228600"/>
            <a:ext cx="1523880" cy="4724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1164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ONO ALTO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1280" y="68580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5943600" y="2361960"/>
            <a:ext cx="19051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E NOV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61296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14800" y="2133720"/>
            <a:ext cx="32767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:00 P.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E CINQU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612960" cy="3657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114800" y="2133720"/>
            <a:ext cx="32767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:00 P.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SCUOL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SCUOL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SCUOL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SCUOL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CAS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CAS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CAS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CAS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14800" y="228600"/>
            <a:ext cx="1523880" cy="4724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11164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ONO ALTA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5715000" y="2133360"/>
            <a:ext cx="19051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A STUDENT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635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A STUDENT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635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O STUDENT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349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O STUDENT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349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A MAESTR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06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A MAESTR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06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191120" y="228600"/>
            <a:ext cx="1523880" cy="4724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1164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ONO ALTA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>
            <a:off x="5715000" y="2133360"/>
            <a:ext cx="19051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 MAESTR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1818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 MAESTR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1818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UDI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251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UDI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251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AVO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5623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AVO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5623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AVO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84440" y="609480"/>
            <a:ext cx="3384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AVO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584440" y="609480"/>
            <a:ext cx="3384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GG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13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43200" y="2286000"/>
            <a:ext cx="1523880" cy="251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ONO BASS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34290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GG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13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 LIB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591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 LIB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591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A CARTOLI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9339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A CARTOLI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9339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019920" cy="51148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38080" y="838080"/>
            <a:ext cx="2971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898880"/>
            <a:ext cx="9144000" cy="19227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A LENTE D’INGRANDIMEN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4822920"/>
            <a:ext cx="9144000" cy="19227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A LENTE D’INGRANDIMEN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019920" cy="5114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838080" y="838080"/>
            <a:ext cx="2971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 FA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 FA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 FA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 FA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472428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19520" y="2286000"/>
            <a:ext cx="1523880" cy="251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ONO BASS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34290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36232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72428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PERCHÈ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PERCHÈ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DOL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451240" y="304920"/>
            <a:ext cx="3620880" cy="5333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038480" y="3352680"/>
            <a:ext cx="914400" cy="914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105160" y="4190760"/>
            <a:ext cx="25146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57200"/>
            <a:ext cx="3657600" cy="1066680"/>
          </a:xfrm>
          <a:prstGeom prst="wedgeRoundRectCallout">
            <a:avLst>
              <a:gd name="adj1" fmla="val -64106"/>
              <a:gd name="adj2" fmla="val 81995"/>
              <a:gd name="adj3" fmla="val 1666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Yumm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DOL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451240" y="304920"/>
            <a:ext cx="3620880" cy="53337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038480" y="3352680"/>
            <a:ext cx="914400" cy="914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5105160" y="4190760"/>
            <a:ext cx="25146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52880" y="457200"/>
            <a:ext cx="3657600" cy="1066680"/>
          </a:xfrm>
          <a:prstGeom prst="wedgeRoundRectCallout">
            <a:avLst>
              <a:gd name="adj1" fmla="val -64106"/>
              <a:gd name="adj2" fmla="val 81995"/>
              <a:gd name="adj3" fmla="val 1666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Yumm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VELO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VELO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TARD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334120" cy="44816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1709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TARD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334120" cy="4481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1709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MANGI IL CIOCCOLATIN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28954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MANGI IL CIOCCOLATIN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MANGI IL CIOCCOLATIN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8954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MANGI IL CIOCCOLATIN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9:38:26Z</dcterms:created>
  <dc:creator>Valeria</dc:creator>
  <dc:description/>
  <dc:language>en-US</dc:language>
  <cp:lastModifiedBy>Valeria</cp:lastModifiedBy>
  <dcterms:modified xsi:type="dcterms:W3CDTF">2005-10-11T01:42:09Z</dcterms:modified>
  <cp:revision>17</cp:revision>
  <dc:subject/>
  <dc:title>Slide 1</dc:title>
</cp:coreProperties>
</file>